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9EA0-145E-4CFD-82D9-C8D90767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6C6A-55C2-43B7-A324-E5C537B6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3A11-6434-44C3-B3E5-856DE952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A5B7-1AC6-46E3-8262-839AB9C4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45FF-E22E-4676-9BCA-041BC1E6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60AC-3AD3-4BC3-BFE4-10D302A0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063C-7FFC-4F97-B25C-847A8C1E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E4AA-4E18-4924-BF9A-602C56F3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7418-E520-40E9-98BF-5111F8B8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480E-E5F5-4D87-83F5-D119F823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5DAD-EAB7-4A71-BF71-671F1CE2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B16A-7EA5-45FE-9287-F460BAEE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E70C-ED12-42C3-8152-BFE279423CA3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dmc.or.kr/2003-1/work/right/inspect/first.jsp" TargetMode="External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1114560" y="2133720"/>
            <a:ext cx="6842160" cy="914400"/>
          </a:xfrm>
          <a:prstGeom prst="rect">
            <a:avLst/>
          </a:prstGeom>
          <a:gradFill rotWithShape="0">
            <a:gsLst>
              <a:gs pos="0">
                <a:srgbClr val="96c5f4">
                  <a:alpha val="50196"/>
                </a:srgbClr>
              </a:gs>
              <a:gs pos="50000">
                <a:srgbClr val="fefefe"/>
              </a:gs>
              <a:gs pos="100000">
                <a:srgbClr val="96c5f4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ctr" anchorCtr="1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점검용 </a:t>
            </a:r>
            <a:r>
              <a:rPr b="1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/W(Inspector3.1) </a:t>
            </a:r>
            <a:r>
              <a:rPr b="1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메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3441960" y="4503600"/>
            <a:ext cx="2180160" cy="4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그램심의조정위원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591D-42F7-4AA5-B339-E2CA655FB45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98560" y="1438200"/>
          <a:ext cx="7197840" cy="35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8560" y="1438200"/>
                    <a:ext cx="7197840" cy="359892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267560" y="5173560"/>
            <a:ext cx="646776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위와 같은 방법으로 각 각의 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PC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를 검색합니다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※ 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A[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구분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3]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은 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Keylist.dat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에는 없으나 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Windows Regedit 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값에 저장되어 있는 값을 의미합니다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※ 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A[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구분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4]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는 해당 컴퓨터에 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 이상 중복 설치된 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/W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를 의미합니다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1303200" y="4176720"/>
            <a:ext cx="432000" cy="3603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1199160" y="4511520"/>
            <a:ext cx="3146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6702480" y="487440"/>
            <a:ext cx="21524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가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실행하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529200" y="6237360"/>
            <a:ext cx="725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방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8140-B304-4A2B-9913-624EE334E8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573360"/>
            <a:ext cx="936360" cy="863640"/>
          </a:xfrm>
          <a:custGeom>
            <a:avLst/>
            <a:gdLst>
              <a:gd name="textAreaLeft" fmla="*/ 146160 w 936360"/>
              <a:gd name="textAreaRight" fmla="*/ 819360 w 936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66ff">
                  <a:alpha val="73333"/>
                </a:srgbClr>
              </a:gs>
              <a:gs pos="100000">
                <a:srgbClr val="dee6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68360" y="1341360"/>
          <a:ext cx="359892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341360"/>
                    <a:ext cx="3598920" cy="18003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859280" y="3141720"/>
          <a:ext cx="3598920" cy="180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59280" y="3141720"/>
                    <a:ext cx="3598920" cy="180000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1407240" y="5173560"/>
            <a:ext cx="598680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[Checkout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폴더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]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에 각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를 검색하여 생성된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IPT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파일을 복사합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와 같이 각각의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IPT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파일을 하나의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heckout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폴더에 모읍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1812960" y="1822320"/>
            <a:ext cx="604800" cy="50508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1980000" y="2309760"/>
            <a:ext cx="3146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6234120" y="3500280"/>
            <a:ext cx="2087640" cy="10083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7177680" y="4506840"/>
            <a:ext cx="3178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6702480" y="487440"/>
            <a:ext cx="21524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나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취합하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9200" y="6237360"/>
            <a:ext cx="725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방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B8D2-75ED-40EC-B84A-34FA949A821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1717920" y="5173560"/>
            <a:ext cx="6160680" cy="9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다시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In3.exe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를 실행시켜 초기 화면을 로드시키고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[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검사취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]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을 클릭합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와 같이 취합하고자 하는 파일을 선택하고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OK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버튼을 클릭합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※ 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전체선택을 클릭하면 모든 파일이 선택됩니다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98560" y="1438200"/>
          <a:ext cx="7197840" cy="35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8560" y="1438200"/>
                    <a:ext cx="7197840" cy="359892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039760" y="1601640"/>
            <a:ext cx="605160" cy="50508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2196000" y="2089080"/>
            <a:ext cx="3146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2916360" y="2670120"/>
            <a:ext cx="2087280" cy="10080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3831120" y="3686040"/>
            <a:ext cx="3178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6702480" y="487440"/>
            <a:ext cx="21524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나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취합하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529200" y="6237360"/>
            <a:ext cx="725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방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008E-F2ED-43DF-B789-01B30326AB6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898560" y="1438200"/>
          <a:ext cx="7197840" cy="35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8560" y="1438200"/>
                    <a:ext cx="7197840" cy="359892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1519920" y="5173560"/>
            <a:ext cx="372636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취합이 끝나면 다음과 같은 메시지가 뜨게 됩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확인버튼을 클릭합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6702480" y="487440"/>
            <a:ext cx="21524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나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취합하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529200" y="6237360"/>
            <a:ext cx="725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방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A44F-FFE4-4993-BD1C-1B42E40ED2A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898560" y="1438200"/>
          <a:ext cx="7197840" cy="35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8560" y="1438200"/>
                    <a:ext cx="7197840" cy="359892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1722960" y="5187960"/>
            <a:ext cx="526788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[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결과작성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]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버튼을 클릭하면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저장하시겠습니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?”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라는 창이 뜹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[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Y)]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버튼을 클릭합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2556000" y="1623960"/>
            <a:ext cx="604800" cy="50472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732760" y="2089080"/>
            <a:ext cx="3146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3790800" y="3178080"/>
            <a:ext cx="605160" cy="50508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948840" y="3621240"/>
            <a:ext cx="3178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6702480" y="487440"/>
            <a:ext cx="21524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나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취합하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529200" y="6237360"/>
            <a:ext cx="725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방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F1CD-FD99-4FF5-B648-1ECC93AEAF2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98560" y="1438200"/>
          <a:ext cx="7197840" cy="35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8560" y="1438200"/>
                    <a:ext cx="7197840" cy="359892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1396800" y="5173560"/>
            <a:ext cx="40438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다음과 같은 창이 뜨면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[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확인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]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버튼을 클릭합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184640" y="3178080"/>
            <a:ext cx="604800" cy="50508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4361400" y="3598920"/>
            <a:ext cx="3146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702480" y="487440"/>
            <a:ext cx="21524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나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취합하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529200" y="6237360"/>
            <a:ext cx="725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방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52D1-F7A1-46BD-BDFB-BEB2B2D0AD1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927080" y="5173560"/>
            <a:ext cx="542808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[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업체정보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]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를 입력한 후 프로그램정보에 맞게 설치되었는지 확인합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[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번호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]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의 박스를 선택하고 목록삭제를 하면 해당 프로그램은 삭제됩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6702480" y="487440"/>
            <a:ext cx="21524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결과작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529200" y="6237360"/>
            <a:ext cx="725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방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898560" y="1438200"/>
          <a:ext cx="7197840" cy="35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8560" y="1438200"/>
                    <a:ext cx="7197840" cy="359892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1109520" y="2133720"/>
            <a:ext cx="6913800" cy="64764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4428000" y="2741760"/>
            <a:ext cx="3146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1081080" y="2852640"/>
            <a:ext cx="604800" cy="129708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1445040" y="4005360"/>
            <a:ext cx="3178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07BB-9BED-41B2-8C64-2F1CDB1603A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1869840" y="5173560"/>
            <a:ext cx="5405760" cy="9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[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목록추가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]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버튼을 클릭하면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프로그램 목록 추가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창이 뜹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사항들을 입력하고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OK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버튼을 클릭하면 프로그램 정보 안에 해당 사항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추가됩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702480" y="487440"/>
            <a:ext cx="21524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결과작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529200" y="6237360"/>
            <a:ext cx="725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방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898560" y="1438200"/>
          <a:ext cx="7197840" cy="35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8560" y="1438200"/>
                    <a:ext cx="7197840" cy="359892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2936880" y="3933720"/>
            <a:ext cx="604800" cy="57492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3077280" y="3586320"/>
            <a:ext cx="3146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132000" y="2276640"/>
          <a:ext cx="2737080" cy="123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2276640"/>
                    <a:ext cx="2737080" cy="123660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5186880" y="3067200"/>
            <a:ext cx="3178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421000"/>
            <a:ext cx="2232000" cy="86364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CEB8-9E09-4586-B0C4-ABB7DBDAA95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1526760" y="5173560"/>
            <a:ext cx="6074280" cy="9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설치수량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정품수량을 더블 클릭하면 바로 수량을 수정할 수 있습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복제수량은 자동으로 계산 되므로 수정하실 필요가 없습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작업이 모두 끝나면 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B[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저장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r>
              <a:rPr b="0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버튼을 클릭하여 해당 내용을 저장합니다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6702480" y="487440"/>
            <a:ext cx="21524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결과작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529200" y="6237360"/>
            <a:ext cx="725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방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898560" y="1438200"/>
          <a:ext cx="7197840" cy="35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8560" y="1438200"/>
                    <a:ext cx="7197840" cy="359892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4572000" y="2827440"/>
            <a:ext cx="2332080" cy="129672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201360" y="4008600"/>
            <a:ext cx="3146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4638600" y="3984480"/>
            <a:ext cx="604800" cy="57492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5210640" y="4406760"/>
            <a:ext cx="3178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2A9F-FFBA-472B-A89A-3E4096B0B66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898560" y="1438200"/>
          <a:ext cx="7197840" cy="35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8560" y="1438200"/>
                    <a:ext cx="7197840" cy="359892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2041920" y="5173560"/>
            <a:ext cx="5503320" cy="9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[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인쇄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]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버튼을 클릭하면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결과별 인쇄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창이 뜹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의 인쇄하고자 하는 내용을 클릭하고 선택버튼을 누르면 인쇄가 시작됩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※ 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[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양식인쇄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]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는 기업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기관이 체계적인 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/W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관리를 하고자 할 때 사용하는 양식입니다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3059280" y="1579680"/>
            <a:ext cx="604800" cy="5745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3636000" y="1643040"/>
            <a:ext cx="3146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3368520" y="2730600"/>
            <a:ext cx="605160" cy="113004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178800" y="3514680"/>
            <a:ext cx="3178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6702480" y="487440"/>
            <a:ext cx="21524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라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인쇄하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529200" y="6237360"/>
            <a:ext cx="725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방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D2F8-A896-4439-B78D-BEA627B328E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348000" y="1413000"/>
            <a:ext cx="2519280" cy="647640"/>
          </a:xfrm>
          <a:prstGeom prst="rect">
            <a:avLst/>
          </a:prstGeom>
          <a:gradFill rotWithShape="0">
            <a:gsLst>
              <a:gs pos="0">
                <a:srgbClr val="96c5f4">
                  <a:alpha val="50196"/>
                </a:srgbClr>
              </a:gs>
              <a:gs pos="50000">
                <a:srgbClr val="fefefe"/>
              </a:gs>
              <a:gs pos="100000">
                <a:srgbClr val="96c5f4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ctr" anchorCtr="1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목  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279520"/>
            <a:ext cx="806436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2135160"/>
            <a:ext cx="7920000" cy="38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spAutoFit/>
          </a:bodyPr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Ⅰ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공지사항 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………………………   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Ⅱ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사용방법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………………………………………………………………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가</a:t>
            </a:r>
            <a:r>
              <a:rPr b="0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실행하기   </a:t>
            </a:r>
            <a:r>
              <a:rPr b="0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……………………………   </a:t>
            </a:r>
            <a:r>
              <a:rPr b="0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나</a:t>
            </a:r>
            <a:r>
              <a:rPr b="0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취합하기   </a:t>
            </a:r>
            <a:r>
              <a:rPr b="0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……………………………  </a:t>
            </a:r>
            <a:r>
              <a:rPr b="0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0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결과작성   </a:t>
            </a:r>
            <a:r>
              <a:rPr b="0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……………………………  </a:t>
            </a:r>
            <a:r>
              <a:rPr b="0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라</a:t>
            </a:r>
            <a:r>
              <a:rPr b="0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인쇄하기   </a:t>
            </a:r>
            <a:r>
              <a:rPr b="0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……………………………  </a:t>
            </a:r>
            <a:r>
              <a:rPr b="0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Ⅲ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빠르게 점검하기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………………  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22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Ⅳ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불법복제 관련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IPS  …………………………………………………   27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가</a:t>
            </a:r>
            <a:r>
              <a:rPr b="0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점검용 </a:t>
            </a:r>
            <a:r>
              <a:rPr b="0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/W UPGRADE …………………………………………………………  28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나</a:t>
            </a:r>
            <a:r>
              <a:rPr b="0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정품 </a:t>
            </a:r>
            <a:r>
              <a:rPr b="0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/W</a:t>
            </a:r>
            <a:r>
              <a:rPr b="0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관리를 위한 관리자 가이드  </a:t>
            </a:r>
            <a:r>
              <a:rPr b="0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  </a:t>
            </a:r>
            <a:r>
              <a:rPr b="0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F9CC-90A4-4A69-925D-E9B1286A546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4788000" y="1438200"/>
          <a:ext cx="3598920" cy="35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438200"/>
                    <a:ext cx="3598920" cy="359892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898560" y="1438200"/>
          <a:ext cx="3598920" cy="359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98560" y="1438200"/>
                    <a:ext cx="3598920" cy="359892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1377720" y="5173560"/>
            <a:ext cx="554580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&lt;PC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별 검사결과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&gt;                           &lt;S/W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별 검사 결과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6702480" y="487440"/>
            <a:ext cx="21524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라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인쇄하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529200" y="6237360"/>
            <a:ext cx="725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방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42B9-3888-42AB-B310-A15B78AEF99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898560" y="1438200"/>
          <a:ext cx="3598920" cy="35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8560" y="1438200"/>
                    <a:ext cx="3598920" cy="359892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4786200" y="1438200"/>
          <a:ext cx="3598920" cy="359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6200" y="1438200"/>
                    <a:ext cx="3598920" cy="359892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1442160" y="5173560"/>
            <a:ext cx="487836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&lt;S/W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별 불법복제 점검결과 확인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&gt;                    &lt;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약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6702480" y="487440"/>
            <a:ext cx="21524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라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인쇄하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29200" y="6237360"/>
            <a:ext cx="725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방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BE44-B855-4E91-B8C8-22622056E61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898560" y="1438200"/>
          <a:ext cx="3598920" cy="35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8560" y="1438200"/>
                    <a:ext cx="3598920" cy="359892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889920" y="5173560"/>
            <a:ext cx="234432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&lt;S/W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관리 대장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6702480" y="487440"/>
            <a:ext cx="21524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라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인쇄하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529200" y="6237360"/>
            <a:ext cx="725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방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869F-67C5-478B-97E4-0ED93C5D8DA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1079640" y="2878200"/>
            <a:ext cx="6842160" cy="914400"/>
          </a:xfrm>
          <a:prstGeom prst="rect">
            <a:avLst/>
          </a:prstGeom>
          <a:gradFill rotWithShape="0">
            <a:gsLst>
              <a:gs pos="0">
                <a:srgbClr val="96c5f4">
                  <a:alpha val="50196"/>
                </a:srgbClr>
              </a:gs>
              <a:gs pos="50000">
                <a:srgbClr val="fefefe"/>
              </a:gs>
              <a:gs pos="100000">
                <a:srgbClr val="96c5f4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ctr" anchorCtr="1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빠르게 점검하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D875-CC34-4ED6-BBF5-61ABE630B03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898560" y="1438200"/>
          <a:ext cx="7197840" cy="35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8560" y="1438200"/>
                    <a:ext cx="7197840" cy="359892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1563840" y="5173560"/>
            <a:ext cx="58705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점검용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/W(Inspector3.1)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이 들어있는 폴더를 공유합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※ 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예는 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Windows2000Pro 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이며 각 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OS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의 버전 별로 공유 방법에 차이가 있으므로 알맞은 방법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선택해야 합니다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610920" y="6237360"/>
            <a:ext cx="10702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Ⅲ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빠르게 점검하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7BC7-3873-47EC-B3FF-EEF05DE6DB6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898560" y="1438200"/>
          <a:ext cx="7197840" cy="35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8560" y="1438200"/>
                    <a:ext cx="7197840" cy="359892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1866600" y="5173560"/>
            <a:ext cx="5696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[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사용권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]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버튼을 클릭하여 공유 폴더의 사용 권한을 추가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[B]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하여 줍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에서 사용권한은 모든 권한을 허용하여야 합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※ 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모든 권한을 허용하지 않으면 점검결과가 저장되지 않습니다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6058080" y="2814480"/>
            <a:ext cx="936360" cy="57492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284720" y="2579760"/>
            <a:ext cx="936720" cy="5745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3948120" y="3359160"/>
            <a:ext cx="695160" cy="5745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3997800" y="2421000"/>
            <a:ext cx="3178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020360" y="2997360"/>
            <a:ext cx="3146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4509720" y="3789360"/>
            <a:ext cx="31320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10920" y="6237360"/>
            <a:ext cx="10702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Ⅲ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빠르게 점검하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A3AC-D88B-42E0-870D-E2EB47632F1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895040" y="5173560"/>
            <a:ext cx="5212800" cy="9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시작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]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실행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]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을 클릭합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와 같이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\\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공유된컴퓨터이름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\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폴더이름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\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실행파일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의 형식으로 입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한 뒤 확인버튼을 클릭합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898560" y="1438200"/>
          <a:ext cx="2017800" cy="35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8560" y="1438200"/>
                    <a:ext cx="2017800" cy="359892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971640" y="4268880"/>
            <a:ext cx="1847880" cy="5745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2051640" y="3933720"/>
            <a:ext cx="3146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610920" y="6237360"/>
            <a:ext cx="10702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Ⅲ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빠르게 점검하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3995640" y="2205000"/>
          <a:ext cx="4295880" cy="15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95640" y="2205000"/>
                    <a:ext cx="4295880" cy="155268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4572000" y="2708280"/>
            <a:ext cx="3672000" cy="5745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8319240" y="2781360"/>
            <a:ext cx="3178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8027-ABB6-47A3-BFA1-C1C2D5A062F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1662480" y="5173560"/>
            <a:ext cx="6431760" cy="9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다음과 같은 화면이 로드 되며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검사 방법은 플로피디스크로 할 때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동일한 방법으로 실행하면 됩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※ 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단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검사가 끝난 후 해당 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PC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의 검사결과인 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IPT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파일은 공유된 컴퓨터의 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heckout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으로 자동 이동됩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610920" y="6237360"/>
            <a:ext cx="10702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Ⅲ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빠르게 점검하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898560" y="1438200"/>
          <a:ext cx="7197840" cy="35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8560" y="1438200"/>
                    <a:ext cx="7197840" cy="359892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C245-3473-4502-B3ED-696166E8820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1079640" y="2878200"/>
            <a:ext cx="6842160" cy="914400"/>
          </a:xfrm>
          <a:prstGeom prst="rect">
            <a:avLst/>
          </a:prstGeom>
          <a:gradFill rotWithShape="0">
            <a:gsLst>
              <a:gs pos="0">
                <a:srgbClr val="96c5f4">
                  <a:alpha val="50196"/>
                </a:srgbClr>
              </a:gs>
              <a:gs pos="50000">
                <a:srgbClr val="fefefe"/>
              </a:gs>
              <a:gs pos="100000">
                <a:srgbClr val="96c5f4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ctr" anchorCtr="1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정품 </a:t>
            </a:r>
            <a:r>
              <a:rPr b="1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/W</a:t>
            </a:r>
            <a:r>
              <a:rPr b="1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관리를 위한 관리자 가이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1B6F-36C9-4716-9C1C-E9676343902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1246680" y="5173560"/>
            <a:ext cx="6571440" cy="9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프로그램심의조정위원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굴림"/>
                <a:hlinkClick r:id="rId2"/>
              </a:rPr>
              <a:t>www.pdmc.or.kr/2003-1/work/right/inspect/first.jsp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에 가시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주기적으로 업그레이드 된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keylist.dat(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점검대상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/W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정보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파일을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Update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한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898560" y="1438200"/>
            <a:ext cx="7197840" cy="3598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67" name=""/>
          <p:cNvSpPr/>
          <p:nvPr/>
        </p:nvSpPr>
        <p:spPr>
          <a:xfrm>
            <a:off x="2843280" y="3500280"/>
            <a:ext cx="2952720" cy="5763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764280" y="6237360"/>
            <a:ext cx="21272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Ⅳ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품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/W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관리를 위한 관리자 가이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495400" y="550800"/>
            <a:ext cx="371592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가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점검용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/W UPGRAD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D544-841C-404E-87D3-5EDA665CF09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2205000"/>
            <a:ext cx="835164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본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/W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는 자체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/W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점검을 통해 원활한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/W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관리를 돕기 위해  프로그램심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조정위원회에서 개발한 점검용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/W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입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본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/W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에 대한 저작권은 프로그램심의조정위원회에 있으며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무단으로 배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또는 점검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이외의 목적으로 사용하여서는 안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점검대상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/W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의 정보가 주기적으로 업데이트 되므로 이용자께서는 프로그램심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조정위원회 홈페이지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(www.pdmc.or.kr)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own_Load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받으시기 바랍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본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/W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는 점검용으로 무료 배포되는 것으로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실제 단속 시 사용되는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/W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와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차이가 있음을 밝힙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좀 더 세밀한 점검을 위해서는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제어판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]-[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프로그램 추가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제거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를 병행하여 확인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하시기 바랍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2843280" y="1413000"/>
            <a:ext cx="3097080" cy="647640"/>
          </a:xfrm>
          <a:prstGeom prst="rect">
            <a:avLst/>
          </a:prstGeom>
          <a:gradFill rotWithShape="0">
            <a:gsLst>
              <a:gs pos="0">
                <a:srgbClr val="96c5f4">
                  <a:alpha val="50196"/>
                </a:srgbClr>
              </a:gs>
              <a:gs pos="50000">
                <a:srgbClr val="fefefe"/>
              </a:gs>
              <a:gs pos="100000">
                <a:srgbClr val="96c5f4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ctr" anchorCtr="1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공 지 사 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A0D9-D8EF-40CD-B4F8-F16B19E7D3C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611280" y="2205000"/>
            <a:ext cx="8281800" cy="23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324000" y="1916280"/>
            <a:ext cx="8280360" cy="115092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1908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360000" bIns="41760" anchor="ctr">
            <a:no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 http://www.pdmc.or.kr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에 접속하여 무료 점검용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/W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own_Loa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받아 사용 방법 및 사용시 주의사항 등을 익힌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252360" y="1557360"/>
            <a:ext cx="828036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1f7fe"/>
              </a:gs>
              <a:gs pos="100000">
                <a:srgbClr val="99ccff">
                  <a:alpha val="67058"/>
                </a:srgbClr>
              </a:gs>
            </a:gsLst>
            <a:lin ang="10800000"/>
          </a:gradFill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ctr">
            <a:no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TEP 1. </a:t>
            </a: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무료 점검용 </a:t>
            </a:r>
            <a:r>
              <a:rPr b="1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/W</a:t>
            </a: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를 </a:t>
            </a:r>
            <a:r>
              <a:rPr b="1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Down_Load </a:t>
            </a: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받는다</a:t>
            </a:r>
            <a:r>
              <a:rPr b="1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324000" y="3789360"/>
            <a:ext cx="8280360" cy="216072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1908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360000" bIns="41760" anchor="ctr">
            <a:no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직원들에게 각자 컴퓨터에 설치된 모든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/W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목록을 작성하게 한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제어판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프로그램추가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삭제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에 나오는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LIST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참조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점검용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/W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에서 나온 최종결과 및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제어판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프로그램 추가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삭제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나오는 상용 프로그램 리스트를 참조한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3427560"/>
            <a:ext cx="828036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1f7fe"/>
              </a:gs>
              <a:gs pos="100000">
                <a:srgbClr val="99ccff">
                  <a:alpha val="67058"/>
                </a:srgbClr>
              </a:gs>
            </a:gsLst>
            <a:lin ang="10800000"/>
          </a:gradFill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ctr">
            <a:no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TEP 2. </a:t>
            </a: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사내 컴퓨터에 설치된 모든 </a:t>
            </a:r>
            <a:r>
              <a:rPr b="1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/W</a:t>
            </a: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를 조사한다</a:t>
            </a:r>
            <a:r>
              <a:rPr b="1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5903280" y="550800"/>
            <a:ext cx="29476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나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체크포인트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4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단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764280" y="6237360"/>
            <a:ext cx="21272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Ⅳ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품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/W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관리를 위한 관리자 가이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2F80-72BA-4F01-BF39-F90E8DF7FEC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>
            <a:off x="324000" y="1628640"/>
            <a:ext cx="8280360" cy="417672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1908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360000" bIns="41760" anchor="ctr">
            <a:no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보유하고 있는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/W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가 정품임을 증명할 수 있는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증서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를 확보한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·S/W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설치에 사용된 모든 정품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/W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의 디스크와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·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구매시 계약서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라이선스 계약서 등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또는 저작권자의 사용허락 증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·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원본 사양서 또는 안내 책자와 참조 서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·S/W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가 이미 설치된 경우 컴퓨터 송장과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/W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구매 송장 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※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정품임을 증명할 수 없는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/W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는 모두 불법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/W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불법복제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/W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구별법 참조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>
            <a:off x="252360" y="1557360"/>
            <a:ext cx="828036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1f7fe"/>
              </a:gs>
              <a:gs pos="100000">
                <a:srgbClr val="99ccff">
                  <a:alpha val="67058"/>
                </a:srgbClr>
              </a:gs>
            </a:gsLst>
            <a:lin ang="10800000"/>
          </a:gradFill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ctr">
            <a:no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TEP 3. </a:t>
            </a: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정품 </a:t>
            </a:r>
            <a:r>
              <a:rPr b="1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/W</a:t>
            </a: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지 불법복제 </a:t>
            </a:r>
            <a:r>
              <a:rPr b="1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/W</a:t>
            </a: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지 체크한다</a:t>
            </a:r>
            <a:r>
              <a:rPr b="1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>
            <a:off x="5903280" y="550800"/>
            <a:ext cx="29476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나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체크포인트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4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단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764280" y="6237360"/>
            <a:ext cx="21272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Ⅳ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품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/W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관리를 위한 관리자 가이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E29F-2FE3-4A97-A5D9-3050502C346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>
            <a:off x="324000" y="1989000"/>
            <a:ext cx="8280360" cy="244800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1908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360000" bIns="41760" anchor="ctr">
            <a:no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불법복제한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/W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를 해당 컴퓨터에서 모두 삭제한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 [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제어판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프로그램 추가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삭제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탐색기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프로그램 파일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에서 해당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/W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를 모두 삭제한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가능한 한 레지스트리 기록까지 모두 삭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이렇게 하기 위해서는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PC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를 포맷해야 가능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>
            <a:off x="250920" y="1557360"/>
            <a:ext cx="828036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1f7fe"/>
              </a:gs>
              <a:gs pos="100000">
                <a:srgbClr val="99ccff">
                  <a:alpha val="67058"/>
                </a:srgbClr>
              </a:gs>
            </a:gsLst>
            <a:lin ang="10800000"/>
          </a:gradFill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ctr">
            <a:no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TEP 4. </a:t>
            </a: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불법복제 </a:t>
            </a:r>
            <a:r>
              <a:rPr b="1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/W</a:t>
            </a: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를 해당 컴퓨터에서 모두 삭제한다</a:t>
            </a:r>
            <a:r>
              <a:rPr b="1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5903280" y="550800"/>
            <a:ext cx="29476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나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체크포인트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4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단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>
            <a:off x="764280" y="6237360"/>
            <a:ext cx="21272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Ⅳ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품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/W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관리를 위한 관리자 가이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444B-D7A1-485E-BA22-6DADC82CDDE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>
            <a:off x="1114560" y="2946240"/>
            <a:ext cx="6842160" cy="914400"/>
          </a:xfrm>
          <a:prstGeom prst="rect">
            <a:avLst/>
          </a:prstGeom>
          <a:gradFill rotWithShape="0">
            <a:gsLst>
              <a:gs pos="0">
                <a:srgbClr val="96c5f4">
                  <a:alpha val="50196"/>
                </a:srgbClr>
              </a:gs>
              <a:gs pos="50000">
                <a:srgbClr val="fefefe"/>
              </a:gs>
              <a:gs pos="100000">
                <a:srgbClr val="96c5f4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ctr" anchorCtr="1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감 사 합 니 다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2BB3-98E2-4875-BBA0-94DA16EBADEB}" type="slidenum">
              <a:t>3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1079640" y="2878200"/>
            <a:ext cx="6842160" cy="914400"/>
          </a:xfrm>
          <a:prstGeom prst="rect">
            <a:avLst/>
          </a:prstGeom>
          <a:gradFill rotWithShape="0">
            <a:gsLst>
              <a:gs pos="0">
                <a:srgbClr val="96c5f4">
                  <a:alpha val="50196"/>
                </a:srgbClr>
              </a:gs>
              <a:gs pos="50000">
                <a:srgbClr val="fefefe"/>
              </a:gs>
              <a:gs pos="100000">
                <a:srgbClr val="96c5f4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ctr" anchorCtr="1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사    용    방    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309D-5A3D-4BD7-B421-534E049169D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661760" y="5173560"/>
            <a:ext cx="5771520" cy="9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프로그램심의조정위원회 홈페이지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www.pdmc.or.kr)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에서 다운 받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reeinsp3.zip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파일의 압축을 풀면 다음과 같은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개의 파일이 생성됩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압축 해제된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[in3.exe]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파일을 실행 시킵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529200" y="6237360"/>
            <a:ext cx="725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방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898560" y="1438200"/>
          <a:ext cx="7197840" cy="35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8560" y="1438200"/>
                    <a:ext cx="7197840" cy="359892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132720" y="2421000"/>
            <a:ext cx="3146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2987640" y="1844640"/>
            <a:ext cx="647640" cy="64764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6702480" y="487440"/>
            <a:ext cx="21524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가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실행하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28F5-FCBF-4FB9-862A-0D17140993C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98560" y="1438200"/>
          <a:ext cx="7197840" cy="35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8560" y="1438200"/>
                    <a:ext cx="7197840" cy="359892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581840" y="5173560"/>
            <a:ext cx="475488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in3.exe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파일을 실행 시키면 다음과 같은 화면이 로드 됩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[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검사시작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버튼을 클릭합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944640" y="1496880"/>
            <a:ext cx="647640" cy="6480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1116720" y="2133720"/>
            <a:ext cx="3146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702480" y="487440"/>
            <a:ext cx="21524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가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실행하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529200" y="6237360"/>
            <a:ext cx="725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방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0BBB-ED10-46F4-BF79-990883B7AF4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98560" y="1438200"/>
          <a:ext cx="7197840" cy="35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8560" y="1438200"/>
                    <a:ext cx="7197840" cy="359892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292400" y="5173560"/>
            <a:ext cx="4822560" cy="9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[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회사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그룹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명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]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를 입력한 후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[OK]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버튼을 클릭합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※</a:t>
            </a:r>
            <a:r>
              <a:rPr b="1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A[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회사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그룹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명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]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를 입력하지 않으면 검사실행이 되지 않음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3913200" y="2565360"/>
            <a:ext cx="1800360" cy="5475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3708360" y="3357720"/>
            <a:ext cx="647640" cy="64764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44000" y="2235240"/>
            <a:ext cx="3146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897720" y="3952800"/>
            <a:ext cx="3178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6702480" y="487440"/>
            <a:ext cx="21524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가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실행하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29200" y="6237360"/>
            <a:ext cx="725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방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ECD-CF7A-4946-A0DD-99ACAFB08B9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98560" y="1438200"/>
          <a:ext cx="7197840" cy="357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8560" y="1438200"/>
                    <a:ext cx="7197840" cy="35751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85080" y="5035680"/>
            <a:ext cx="652932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검사가 시작되면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에 설치된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/W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의 목록이 화면에 표시됩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이때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[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일반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확장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]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을 선택하면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egedit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값도 확인 가능합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※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[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구분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1]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은 설치된 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/W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가 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Keylist.dat(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점검대상 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/W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정보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에 있는 정보와 일치하는 것을 의미합니다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※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[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구분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2]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는 설치된 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/W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가 업데이트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패치되어 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Keylist.dat</a:t>
            </a:r>
            <a:r>
              <a:rPr b="1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에 있는 정보와 일부 상이한 것을 의미합니다</a:t>
            </a:r>
            <a:r>
              <a:rPr b="1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4522680" y="1579680"/>
            <a:ext cx="1800360" cy="5475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5242320" y="1233360"/>
            <a:ext cx="3146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702480" y="487440"/>
            <a:ext cx="21524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가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실행하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529200" y="6237360"/>
            <a:ext cx="725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방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A5D2-65EA-49EF-BBD4-3DFE2293E5C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7840" y="920880"/>
            <a:ext cx="8569440" cy="215640"/>
          </a:xfrm>
          <a:prstGeom prst="rect">
            <a:avLst/>
          </a:prstGeom>
          <a:gradFill rotWithShape="0">
            <a:gsLst>
              <a:gs pos="0">
                <a:srgbClr val="bad8fe">
                  <a:alpha val="26274"/>
                </a:srgbClr>
              </a:gs>
              <a:gs pos="100000">
                <a:srgbClr val="529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3840" y="262080"/>
            <a:ext cx="2763720" cy="649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50920" y="981000"/>
            <a:ext cx="8569080" cy="216000"/>
          </a:xfrm>
          <a:prstGeom prst="rect">
            <a:avLst/>
          </a:prstGeom>
          <a:gradFill rotWithShape="0">
            <a:gsLst>
              <a:gs pos="0">
                <a:srgbClr val="eafefe">
                  <a:alpha val="76078"/>
                </a:srgbClr>
              </a:gs>
              <a:gs pos="100000">
                <a:srgbClr val="ccffff">
                  <a:alpha val="7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6093000"/>
            <a:ext cx="8569440" cy="0"/>
          </a:xfrm>
          <a:prstGeom prst="line">
            <a:avLst/>
          </a:prstGeom>
          <a:ln w="19080">
            <a:solidFill>
              <a:srgbClr val="a8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357120" y="6127920"/>
            <a:ext cx="8497800" cy="0"/>
          </a:xfrm>
          <a:prstGeom prst="line">
            <a:avLst/>
          </a:prstGeom>
          <a:ln w="19080">
            <a:solidFill>
              <a:srgbClr val="529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520" rIns="8352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1910520" y="5187960"/>
            <a:ext cx="5341680" cy="9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검사가 끝나면 다음과 같은 화면이 생성되며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Y)’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를 선택하면 자동으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프로그램이 종료되며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‘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아니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N)’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를 선택하면 해당컴퓨터의 검색결과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계속 볼 수 있습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898560" y="1438200"/>
          <a:ext cx="7197840" cy="35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8560" y="1438200"/>
                    <a:ext cx="7197840" cy="359892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6702480" y="487440"/>
            <a:ext cx="21524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가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실행하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529200" y="6237360"/>
            <a:ext cx="725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Ⅱ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방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D249-C51A-4822-A242-1AF5A14F47C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김광준</cp:lastModifiedBy>
  <dcterms:modified xsi:type="dcterms:W3CDTF">2004-03-31T08:38:51Z</dcterms:modified>
  <cp:revision>317</cp:revision>
  <dc:subject/>
  <dc:title>PowerPoint Presentation</dc:title>
</cp:coreProperties>
</file>